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2606-4999-4FD5-8838-9DAC1784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 exemp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082-E7E2-4F1E-B5D2-29319D48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B78-AD57-40C5-8F23-55DBFE3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D45-FE15-4C6C-A597-3A5E7F00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C6D-5482-4E4D-A737-28E10462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15C-375C-41FB-91DB-57323743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897-0447-49EA-AE86-0E8F523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BA9-64BC-4E0C-B5AA-085511C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D60-15E2-4672-872D-6AD7B3E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1A7-F8AD-49C8-BB98-F78863F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781-19D8-474D-902B-247C5B7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5BF-E57F-44CD-A848-95B6BEB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C5C-55CC-40EE-9AEA-4D5ECB6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FE7B-202E-4C34-AAA1-36FB10DC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esigncouncil.org.uk/resources/assets/image/Picture%2520Desk/Bow%2520Street%2520images/conversions/Library%2520books%2520low%2520res.jpg&amp;imgrefurl=http://www.designcouncil.org.uk/webdav/harmonise%3FPage/%40id%3D6025%26Session/%40id%3DD_hx3A54H0TKXU7k6pq9aH%26Section/%40id%3D1348&amp;h=1200&amp;w=1600&amp;sz=286&amp;hl=en&amp;start=4&amp;tbnid=hv2_e3LmDGtECM:&amp;tbnh=113&amp;tbnw=150&amp;prev=/images%3Fq%3Dlibrary%2Bbooks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2: Small Scale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17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% of your coursework 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s you to demonstrat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ependent lear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produce 2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esentation script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annotated catalogue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What is the difference between Primary and Secondary resear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Primary – Research undertaken directly by yourself in order to generate your </a:t>
            </a:r>
            <a:r>
              <a:rPr b="0" lang="en-GB" sz="2800" spc="-1" strike="noStrike">
                <a:solidFill>
                  <a:srgbClr val="009999"/>
                </a:solidFill>
                <a:latin typeface="AvantGarde Md BT"/>
              </a:rPr>
              <a:t>own</a:t>
            </a: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 fi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Secondary – The use of data that </a:t>
            </a:r>
            <a:r>
              <a:rPr b="0" lang="en-GB" sz="2800" spc="-1" strike="noStrike">
                <a:solidFill>
                  <a:srgbClr val="009999"/>
                </a:solidFill>
                <a:latin typeface="AvantGarde Md BT"/>
              </a:rPr>
              <a:t>someone else</a:t>
            </a: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 has collected or wri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TASK – Brainstorm different types of both primary and secondar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Md BT"/>
              </a:rPr>
              <a:t>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557000"/>
            <a:ext cx="725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ere are a variety of methods you may use but the main on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Intervie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Textu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vantGarde Md BT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 research question will benefit from the use of a </a:t>
            </a: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questionnaire and textual analysis at the very le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Md BT"/>
              </a:rPr>
              <a:t>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vantGarde Md BT"/>
              </a:rPr>
              <a:t>Examples include: Internet, Books, Magazines, Newspapers, Journals, Documentaries, DVD ex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from books and the internet should be academically grounded, if in doubt ask!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Be wary of overly opinionated writing found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media/film section in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0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form libra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are some very good resources that you could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of reliable sources – BBC, The Times, The Guardian, IMDB, BFI, Sight and Sound, British Library (visit 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 the time to consider the most appropriate secondary sources for you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Types of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extu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Industry Research: producers or institutions behind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Academic criticism – theories, essay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opular criticism – reviews, bl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rimary audience research – questionnaires, interviews,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examples (distinguish primary &amp; second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 analysis (or other advertising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m clips/stills/opening sequences/trailer/dvd commentary and/or ex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azine (e.g. film mag front covers)/newspaper/online articles/shots/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s (TV/print/online) – blog com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m theory es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dience vs sta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x office stats might be relevant (e.g. reve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etical background (e.g. essay about feminism, postmoder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ng an interesting 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lan, research and write a good research project can seem a tall order, especially under a tight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earch statement is the first extremely important step that sets the agenda for everything that you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points on stat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ust be easy to understand. Your wording should be relativel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ust have a definite purpose or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mportantly it should be something you’re going to find interesting, enjoyable and rewar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ing about case stud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ch this clip from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Sweet Sixte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rected by Ken L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enre: British Social 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as of research? Brain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 or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of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of ethnicity/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a of investigation would you focus 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what other case studies you would use to accompany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empus Sans ITC"/>
              </a:rPr>
              <a:t>Research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5256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You must keep a diary to record all research conducted – I will give you a book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is diary should include dates, names, and a bibli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ry to be as precise and detailed as possible with al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02436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2: Small Scale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9638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to choose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a of investig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falls within one of the following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/per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, Historical and Politic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920" y="764640"/>
            <a:ext cx="882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rea of investigation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st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pressed in terms of a </a:t>
            </a:r>
            <a:r>
              <a:rPr b="1" i="1" lang="en-GB" sz="4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 (as opposed to a question) so that you can research in an open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n exampl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loration of representations of the zeitgeist within the Dystopian Science-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of Men, The Day After Tomorrow, Independence Day, I Am Legend, 2012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n exampl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700280"/>
            <a:ext cx="8412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 example of a good research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vestigation into ‘humour’ in contemporary British cinema, looking at the films of Richard Cur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Actually, Four Weddings and a Funeral, About a Boy, Notting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d exemplar work – Revisionist Wes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Annotated cat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741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to 15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and secondar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item should be referenc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have a short note (of about 5 lines) explaining how it is relevant to you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losing paragraph should identify at least 4 important items not selected for inclusion and explain w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Presentation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44640"/>
            <a:ext cx="792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 – 1500 words and last 12 – 18 min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present this to us and it will b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headings and sub-headings to divide it up bu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rite it in an essay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show where a piece of supporting material from the Catalogue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items must be referenced by using a Catalogu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adlines – put these in your diary 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6844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 word Rationale (including area of research statement, proposed films and research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0 word essay exploring your focus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ch your other 3 films and write a 200 word summary of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mary researc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v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ary researc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raft of script and 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draft of script and 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2:31:25Z</dcterms:created>
  <dc:creator>maninder singh</dc:creator>
  <dc:description/>
  <dc:language>en-US</dc:language>
  <cp:lastModifiedBy>JAlois</cp:lastModifiedBy>
  <dcterms:modified xsi:type="dcterms:W3CDTF">2010-09-10T08:31:15Z</dcterms:modified>
  <cp:revision>12</cp:revision>
  <dc:subject/>
  <dc:title>FM2: Small Scale Research Project</dc:title>
</cp:coreProperties>
</file>